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  <p:custShowLst>
    <p:custShow name="Chapter" id="0">
      <p:sldLst>
        <p:sld r:id="rId4"/>
        <p:sld r:id="rId5"/>
        <p:sld r:id="rId6"/>
        <p:sld r:id="rId14"/>
        <p:sld r:id="rId12"/>
        <p:sld r:id="rId13"/>
        <p:sld r:id="rId15"/>
        <p:sld r:id="rId9"/>
      </p:sldLst>
    </p:custShow>
    <p:custShow name="ELI Sect 1" id="1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4"/>
        <p:sld r:id="rId16"/>
        <p:sld r:id="rId17"/>
      </p:sldLst>
    </p:custShow>
    <p:custShow name="ELI Sect 3" id="2">
      <p:sldLst>
        <p:sld r:id="rId3"/>
        <p:sld r:id="rId13"/>
        <p:sld r:id="rId15"/>
      </p:sldLst>
    </p:custShow>
    <p:custShow name="ELI Sect 4" id="3">
      <p:sldLst>
        <p:sld r:id="rId13"/>
        <p:sld r:id="rId15"/>
        <p:sld r:id="rId9"/>
      </p:sldLst>
    </p:custShow>
    <p:custShow name="ELI STP" id="4">
      <p:sldLst>
        <p:sld r:id="rId10"/>
        <p:sld r:id="rId11"/>
      </p:sldLst>
    </p:custShow>
    <p:custShow name="Bellringers" id="5">
      <p:sldLst>
        <p:sld r:id="rId4"/>
        <p:sld r:id="rId13"/>
      </p:sldLst>
    </p:custShow>
    <p:custShow name="Chapter menu" id="6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4"/>
        <p:sld r:id="rId16"/>
        <p:sld r:id="rId17"/>
        <p:sld r:id="rId3"/>
        <p:sld r:id="rId13"/>
        <p:sld r:id="rId1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1" descr="earth_sci_cont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28600" y="572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rth as a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7238880" y="76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29">
            <a:hlinkClick r:id="" action="ppaction://hlinkshowjump?jump=firstslide"/>
          </p:cNvPr>
          <p:cNvSpPr/>
          <p:nvPr/>
        </p:nvSpPr>
        <p:spPr>
          <a:xfrm>
            <a:off x="6886440" y="6172200"/>
            <a:ext cx="982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30">
            <a:hlinkClick r:id="" action="ppaction://hlinkshowjump?jump=endshow"/>
          </p:cNvPr>
          <p:cNvSpPr/>
          <p:nvPr/>
        </p:nvSpPr>
        <p:spPr>
          <a:xfrm>
            <a:off x="8048520" y="6172200"/>
            <a:ext cx="849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2">
            <a:hlinkClick r:id="" action="ppaction://hlinkshowjump?jump=previousslide"/>
          </p:cNvPr>
          <p:cNvSpPr/>
          <p:nvPr/>
        </p:nvSpPr>
        <p:spPr>
          <a:xfrm>
            <a:off x="4724280" y="6172200"/>
            <a:ext cx="1040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3">
            <a:hlinkClick r:id="" action="ppaction://hlinkshowjump?jump=nextslide"/>
          </p:cNvPr>
          <p:cNvSpPr/>
          <p:nvPr/>
        </p:nvSpPr>
        <p:spPr>
          <a:xfrm>
            <a:off x="5724360" y="6162840"/>
            <a:ext cx="10764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4">
            <a:hlinkClick r:id="" action="ppaction://hlinkshowjump?jump=firstslide"/>
          </p:cNvPr>
          <p:cNvSpPr/>
          <p:nvPr/>
        </p:nvSpPr>
        <p:spPr>
          <a:xfrm>
            <a:off x="6716880" y="6162840"/>
            <a:ext cx="13046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5">
            <a:hlinkClick r:id="" action="ppaction://hlinkshowjump?jump=endshow"/>
          </p:cNvPr>
          <p:cNvSpPr/>
          <p:nvPr/>
        </p:nvSpPr>
        <p:spPr>
          <a:xfrm>
            <a:off x="7921800" y="6162840"/>
            <a:ext cx="11286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ction 1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th: A Unique Plane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28760" y="149508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 Bas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’s I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ucture of the 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 as a Mag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’s Magnetic Fie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’s Gra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arth’s Interior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agram below shows the layers of Earth’s interi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10" descr="Untitled-7 copy"/>
          <p:cNvPicPr/>
          <p:nvPr/>
        </p:nvPicPr>
        <p:blipFill>
          <a:blip r:embed="rId1"/>
          <a:stretch/>
        </p:blipFill>
        <p:spPr>
          <a:xfrm>
            <a:off x="914400" y="2057400"/>
            <a:ext cx="731520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tructure of the Earth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9" name="ShockwaveFlash1" descr=""/>
          <p:cNvPicPr/>
          <p:nvPr/>
        </p:nvPicPr>
        <p:blipFill>
          <a:blip r:embed="rId1"/>
          <a:stretch/>
        </p:blipFill>
        <p:spPr>
          <a:xfrm>
            <a:off x="2128680" y="1600200"/>
            <a:ext cx="4937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arth as a Magne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’s magnetic field extends beyond the atmosphere and affects a region of space called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gnetosp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sts think that motions within the liquid iron of Earth’s outer core produce electric currents that in turn create Earth’s magnetic fie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arth’s Magnetic Fiel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ShockwaveFlash1" descr=""/>
          <p:cNvPicPr/>
          <p:nvPr/>
        </p:nvPicPr>
        <p:blipFill>
          <a:blip r:embed="rId1"/>
          <a:stretch/>
        </p:blipFill>
        <p:spPr>
          <a:xfrm>
            <a:off x="2128680" y="1600200"/>
            <a:ext cx="4937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arth’s Gravity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vity is the force of attraction that exists between all matter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ording to Newton’s law of gravitation, the force of attraction between any two objects depends on the masses of the objects and the distance between the obj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arger the masses of two objects are and the closer together the objects are, the greater the force of gravity between the objects will b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arth’s Gravity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960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eight and 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ight is a measure of the strength of the pull of gravity on an obje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object’s weight depends on its mass and its distance from Earth’s cen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eight and Lo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the distance between Earth’s surface and its center is greater at the equator than at the poles, the weight of an object at the equator is about 0.3% less than its weight at the North Po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9">
            <a:hlinkClick r:id="" action="ppaction://hlinkshowjump?jump=previousslide"/>
          </p:cNvPr>
          <p:cNvSpPr/>
          <p:nvPr/>
        </p:nvSpPr>
        <p:spPr>
          <a:xfrm>
            <a:off x="4800600" y="6080040"/>
            <a:ext cx="838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5867280" y="6080040"/>
            <a:ext cx="838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ize and shape of Ear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mpositional and structural layers of Earth’s interi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dent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ossible source of Earth’s magnetic fie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mmar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ton’s law of gravi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arth Basic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 is the third planet from the sun in our solar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 formed about 4.6 billion years ago and is made mostly of roc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ximately 70% of Earth’s surface is covered by a thin layer of water known as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lobal oce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 is an oblate sphere, or a slightly flattened sphere. Earth’s pole-to-pole circumference is 40,007 km. Its equatorial circumference is 40,074 k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’s average diameter is 12,756 k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arth’s Interior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sts have made important discoveries about Earth’s interior through studies of seismic wa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ismic waves are vibrations that travel through Earth and that are caused by earthquakes and by explosions near Earth’s surf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studying seismic waves as they travel through Earth, scientists have determined that Earth is made up of three major compositional zones and five major structural z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arth’s Interior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mpositional Zones of Earth’s I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ru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hin and solid outermost layer of Earth that lies above the man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eanic crust, which lies under the oceans, is only 5 to 10 km thick. The continental crust varies in thickness from  15 km to 80 k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antl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Earth science, the layer of rock that lies between Earth’s crust and c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ntle is nearly 2,900 km thick and makes up almost two-thir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arth’s Interior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mpositional Zones of Earth’s Interior,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entral part of Earth that lies below the man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enter of Earth is a sphere composed mainly of nickel and iron whose radius is about 3,500 k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4152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arth’s Interior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26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eading Che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in why scientists have to rely on indirect   observations to study Earth’s interi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direct observations are the only means available for exploring Earth’s interior at depths too great to be reached by drill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arth’s Interior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Structural Zones of Earth’s Interi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3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three compositional zones of Earth’s interior are divided into five structural zon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3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lithosphere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solid, outer layer of Earth that consists of the crust and the rigid upper part of the mant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3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rigid lithosphere is between 15km and 300 km thick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3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asthenosphere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solid, plastic layer of the mantle beneath the lithosphere; made of mantle rock that flows very slowly, which allows tectonic plates to move on top of i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3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plastic asthenosphere is about 200 km thick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arth’s Interior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2296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tructural Zones of Earth’s Interior,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esosphe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terally, the “middle sphere”; the strong, lower part of the mantle between the asthenosphere and the outer c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esosphere reaches from the bottom of the asthenosphere to a depth of about 2,900 k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low the mesosphere is the liquid outer co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uter core surrounds the solid inner core, which begins at a depth of 5,150 k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it Rocksund</dc:creator>
  <dc:description/>
  <dc:language>en-US</dc:language>
  <cp:lastModifiedBy>trocksund</cp:lastModifiedBy>
  <cp:lastPrinted>2004-02-20T14:12:55Z</cp:lastPrinted>
  <dcterms:modified xsi:type="dcterms:W3CDTF">2014-08-28T15:19:35Z</dcterms:modified>
  <cp:revision>727</cp:revision>
  <dc:subject/>
  <dc:title>No Slide Title</dc:title>
</cp:coreProperties>
</file>